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3"/>
          <p:cNvSpPr/>
          <p:nvPr/>
        </p:nvSpPr>
        <p:spPr>
          <a:xfrm>
            <a:off x="1763640" y="1989000"/>
            <a:ext cx="60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组合图形的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7"/>
          <p:cNvSpPr/>
          <p:nvPr/>
        </p:nvSpPr>
        <p:spPr>
          <a:xfrm>
            <a:off x="1817640" y="981000"/>
            <a:ext cx="5283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多边形的面积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6" descr="6"/>
          <p:cNvPicPr/>
          <p:nvPr/>
        </p:nvPicPr>
        <p:blipFill>
          <a:blip r:embed="rId2"/>
          <a:stretch/>
        </p:blipFill>
        <p:spPr>
          <a:xfrm>
            <a:off x="271440" y="71136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1" name="矩形 701444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01445"/>
          <p:cNvSpPr/>
          <p:nvPr/>
        </p:nvSpPr>
        <p:spPr>
          <a:xfrm>
            <a:off x="592200" y="4863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01446"/>
          <p:cNvSpPr/>
          <p:nvPr/>
        </p:nvSpPr>
        <p:spPr>
          <a:xfrm>
            <a:off x="6785280" y="2060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巩固练习，掌握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0"/>
          <p:cNvSpPr/>
          <p:nvPr/>
        </p:nvSpPr>
        <p:spPr>
          <a:xfrm>
            <a:off x="468360" y="213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暴露资源，集体订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/>
          <p:cNvSpPr/>
          <p:nvPr/>
        </p:nvSpPr>
        <p:spPr>
          <a:xfrm>
            <a:off x="468360" y="4869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追问：你为什么不用分和拼的方法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468360" y="5300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此题没法分，也不能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900000" y="299736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30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×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×30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00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468360" y="256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我是采取我的方法解决这道题的，我的答案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12712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643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巩固练习，掌握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0"/>
          <p:cNvSpPr/>
          <p:nvPr/>
        </p:nvSpPr>
        <p:spPr>
          <a:xfrm>
            <a:off x="468360" y="213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示情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468360" y="256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图：已知长方形的长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点分别为长方形长、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的中点，求阴影部分的面积是多少平方厘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468360" y="5516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出问题和要求：请你先想好用什么方法解决这道题，再独立解答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谁的方法最巧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651640" y="3789360"/>
            <a:ext cx="2880720" cy="1438200"/>
            <a:chOff x="5651640" y="3789360"/>
            <a:chExt cx="2880720" cy="1438200"/>
          </a:xfrm>
        </p:grpSpPr>
        <p:pic>
          <p:nvPicPr>
            <p:cNvPr id="128" name="图片 713735" descr="50"/>
            <p:cNvPicPr/>
            <p:nvPr/>
          </p:nvPicPr>
          <p:blipFill>
            <a:blip r:embed="rId2"/>
            <a:stretch/>
          </p:blipFill>
          <p:spPr>
            <a:xfrm>
              <a:off x="5651640" y="3789360"/>
              <a:ext cx="248256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713736"/>
            <p:cNvSpPr/>
            <p:nvPr/>
          </p:nvSpPr>
          <p:spPr>
            <a:xfrm>
              <a:off x="6626160" y="4849920"/>
              <a:ext cx="64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713737"/>
            <p:cNvSpPr/>
            <p:nvPr/>
          </p:nvSpPr>
          <p:spPr>
            <a:xfrm>
              <a:off x="7884720" y="4130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13738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巩固练习，掌握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468360" y="213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暴露资源，组织研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468360" y="2637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一：挖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611280" y="3213000"/>
            <a:ext cx="446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35640" y="2781360"/>
            <a:ext cx="2881440" cy="1438200"/>
            <a:chOff x="5435640" y="2781360"/>
            <a:chExt cx="2881440" cy="1438200"/>
          </a:xfrm>
        </p:grpSpPr>
        <p:pic>
          <p:nvPicPr>
            <p:cNvPr id="138" name="图片 714759" descr="50"/>
            <p:cNvPicPr/>
            <p:nvPr/>
          </p:nvPicPr>
          <p:blipFill>
            <a:blip r:embed="rId2"/>
            <a:stretch/>
          </p:blipFill>
          <p:spPr>
            <a:xfrm>
              <a:off x="5435640" y="2781360"/>
              <a:ext cx="24829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文本框 714760"/>
            <p:cNvSpPr/>
            <p:nvPr/>
          </p:nvSpPr>
          <p:spPr>
            <a:xfrm>
              <a:off x="6410520" y="38419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714761"/>
            <p:cNvSpPr/>
            <p:nvPr/>
          </p:nvSpPr>
          <p:spPr>
            <a:xfrm>
              <a:off x="7669080" y="312264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巩固练习，掌握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0"/>
          <p:cNvSpPr/>
          <p:nvPr/>
        </p:nvSpPr>
        <p:spPr>
          <a:xfrm>
            <a:off x="468360" y="213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暴露资源，组织研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/>
          <p:cNvSpPr/>
          <p:nvPr/>
        </p:nvSpPr>
        <p:spPr>
          <a:xfrm>
            <a:off x="468360" y="2637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二：分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1"/>
          <p:cNvSpPr/>
          <p:nvPr/>
        </p:nvSpPr>
        <p:spPr>
          <a:xfrm>
            <a:off x="611280" y="3213000"/>
            <a:ext cx="446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×4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×2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35640" y="2781360"/>
            <a:ext cx="2881440" cy="1438200"/>
            <a:chOff x="5435640" y="2781360"/>
            <a:chExt cx="2881440" cy="1438200"/>
          </a:xfrm>
        </p:grpSpPr>
        <p:pic>
          <p:nvPicPr>
            <p:cNvPr id="147" name="图片 715783" descr="50"/>
            <p:cNvPicPr/>
            <p:nvPr/>
          </p:nvPicPr>
          <p:blipFill>
            <a:blip r:embed="rId2"/>
            <a:stretch/>
          </p:blipFill>
          <p:spPr>
            <a:xfrm>
              <a:off x="5435640" y="2781360"/>
              <a:ext cx="24829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文本框 715784"/>
            <p:cNvSpPr/>
            <p:nvPr/>
          </p:nvSpPr>
          <p:spPr>
            <a:xfrm>
              <a:off x="6410520" y="38419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715785"/>
            <p:cNvSpPr/>
            <p:nvPr/>
          </p:nvSpPr>
          <p:spPr>
            <a:xfrm>
              <a:off x="7669080" y="312264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巩固练习，掌握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468360" y="213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暴露资源，组织研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760320" y="263700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二：分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1"/>
          <p:cNvSpPr/>
          <p:nvPr/>
        </p:nvSpPr>
        <p:spPr>
          <a:xfrm>
            <a:off x="903240" y="3213000"/>
            <a:ext cx="44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2"/>
          <p:cNvSpPr/>
          <p:nvPr/>
        </p:nvSpPr>
        <p:spPr>
          <a:xfrm>
            <a:off x="468360" y="4869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更喜欢哪种方法？说说你的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796000" y="2205000"/>
            <a:ext cx="2881440" cy="1438200"/>
            <a:chOff x="5796000" y="2205000"/>
            <a:chExt cx="2881440" cy="1438200"/>
          </a:xfrm>
        </p:grpSpPr>
        <p:grpSp>
          <p:nvGrpSpPr>
            <p:cNvPr id="157" name=""/>
            <p:cNvGrpSpPr/>
            <p:nvPr/>
          </p:nvGrpSpPr>
          <p:grpSpPr>
            <a:xfrm>
              <a:off x="5796000" y="2205000"/>
              <a:ext cx="2881440" cy="1438200"/>
              <a:chOff x="5796000" y="2205000"/>
              <a:chExt cx="2881440" cy="1438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5796000" y="2205000"/>
                <a:ext cx="2881440" cy="1438200"/>
                <a:chOff x="5796000" y="2205000"/>
                <a:chExt cx="2881440" cy="1438200"/>
              </a:xfrm>
            </p:grpSpPr>
            <p:pic>
              <p:nvPicPr>
                <p:cNvPr id="159" name="图片 716810" descr="50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96000" y="2205000"/>
                  <a:ext cx="2482920" cy="143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文本框 716811"/>
                <p:cNvSpPr/>
                <p:nvPr/>
              </p:nvSpPr>
              <p:spPr>
                <a:xfrm>
                  <a:off x="6770880" y="326556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文本框 716812"/>
                <p:cNvSpPr/>
                <p:nvPr/>
              </p:nvSpPr>
              <p:spPr>
                <a:xfrm>
                  <a:off x="8029440" y="2546280"/>
                  <a:ext cx="648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843520" y="2220480"/>
                <a:ext cx="1150920" cy="589320"/>
                <a:chOff x="5843520" y="2220480"/>
                <a:chExt cx="1150920" cy="589320"/>
              </a:xfrm>
            </p:grpSpPr>
            <p:sp>
              <p:nvSpPr>
                <p:cNvPr id="163" name="直接连接符 716814"/>
                <p:cNvSpPr/>
                <p:nvPr/>
              </p:nvSpPr>
              <p:spPr>
                <a:xfrm>
                  <a:off x="5843520" y="2809800"/>
                  <a:ext cx="1150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直接连接符 716815"/>
                <p:cNvSpPr/>
                <p:nvPr/>
              </p:nvSpPr>
              <p:spPr>
                <a:xfrm flipV="1">
                  <a:off x="6966000" y="2220480"/>
                  <a:ext cx="0" cy="569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直接连接符 716816"/>
            <p:cNvSpPr/>
            <p:nvPr/>
          </p:nvSpPr>
          <p:spPr>
            <a:xfrm flipH="1" flipV="1">
              <a:off x="6803640" y="2349360"/>
              <a:ext cx="35892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716817"/>
            <p:cNvSpPr/>
            <p:nvPr/>
          </p:nvSpPr>
          <p:spPr>
            <a:xfrm flipH="1" flipV="1">
              <a:off x="6082920" y="2636280"/>
              <a:ext cx="57636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矩形 716818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回顾一下，今天我们是如何学习组合图形的面积，还有什么问题吗？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三、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17828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39640" y="2362320"/>
            <a:ext cx="80391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二十二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18851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507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谈话导入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认识组合图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68360" y="17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：在生活实际中，有些图形是由几个简单的图形组合而成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把这样的图形叫做组合图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468360" y="5556240"/>
            <a:ext cx="82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出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的组合图形里有哪些学过的图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458640" y="2492280"/>
            <a:ext cx="82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示情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468360" y="5987880"/>
            <a:ext cx="82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追问：你知道生活中哪些地方有组合图形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703494" descr="51"/>
          <p:cNvPicPr/>
          <p:nvPr/>
        </p:nvPicPr>
        <p:blipFill>
          <a:blip r:embed="rId2"/>
          <a:stretch/>
        </p:blipFill>
        <p:spPr>
          <a:xfrm>
            <a:off x="2268360" y="2892600"/>
            <a:ext cx="4195800" cy="2519280"/>
          </a:xfrm>
          <a:prstGeom prst="rect">
            <a:avLst/>
          </a:prstGeom>
          <a:ln w="0">
            <a:noFill/>
          </a:ln>
        </p:spPr>
      </p:pic>
      <p:sp>
        <p:nvSpPr>
          <p:cNvPr id="50" name="矩形 703495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03496"/>
          <p:cNvSpPr/>
          <p:nvPr/>
        </p:nvSpPr>
        <p:spPr>
          <a:xfrm>
            <a:off x="592200" y="4863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03497"/>
          <p:cNvSpPr/>
          <p:nvPr/>
        </p:nvSpPr>
        <p:spPr>
          <a:xfrm>
            <a:off x="808200" y="5079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03498"/>
          <p:cNvSpPr/>
          <p:nvPr/>
        </p:nvSpPr>
        <p:spPr>
          <a:xfrm>
            <a:off x="1024200" y="5295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探究组合图形面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632880" y="2089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示情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324000" y="447984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出问题和要求：你能用自己喜欢的方法求出它的面积吗？可以在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画出你的思路，然后再求出面积，看谁的方法最多，如果有困难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以两个人一起研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324000" y="558972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生独立解答，教师搜集资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704518" descr="48"/>
          <p:cNvPicPr/>
          <p:nvPr/>
        </p:nvPicPr>
        <p:blipFill>
          <a:blip r:embed="rId2"/>
          <a:stretch/>
        </p:blipFill>
        <p:spPr>
          <a:xfrm>
            <a:off x="5508720" y="2276640"/>
            <a:ext cx="1990800" cy="2160360"/>
          </a:xfrm>
          <a:prstGeom prst="rect">
            <a:avLst/>
          </a:prstGeom>
          <a:ln w="0">
            <a:noFill/>
          </a:ln>
        </p:spPr>
      </p:pic>
      <p:sp>
        <p:nvSpPr>
          <p:cNvPr id="60" name="矩形 704519"/>
          <p:cNvSpPr/>
          <p:nvPr/>
        </p:nvSpPr>
        <p:spPr>
          <a:xfrm>
            <a:off x="468360" y="278136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右图表示的是一间房子侧面墙的形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它的面积是多少平方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04520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04521"/>
          <p:cNvSpPr/>
          <p:nvPr/>
        </p:nvSpPr>
        <p:spPr>
          <a:xfrm>
            <a:off x="592200" y="4863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2"/>
          <p:cNvSpPr/>
          <p:nvPr/>
        </p:nvSpPr>
        <p:spPr>
          <a:xfrm>
            <a:off x="1047960" y="215424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暴露资源，组织研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468360" y="2565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一：三角形＋正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探究组合图形面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57200" y="417600"/>
            <a:ext cx="6923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706565" descr="48"/>
          <p:cNvPicPr/>
          <p:nvPr/>
        </p:nvPicPr>
        <p:blipFill>
          <a:blip r:embed="rId2"/>
          <a:stretch/>
        </p:blipFill>
        <p:spPr>
          <a:xfrm>
            <a:off x="5508720" y="2276640"/>
            <a:ext cx="1990800" cy="2160360"/>
          </a:xfrm>
          <a:prstGeom prst="rect">
            <a:avLst/>
          </a:prstGeom>
          <a:ln w="0">
            <a:noFill/>
          </a:ln>
        </p:spPr>
      </p:pic>
      <p:sp>
        <p:nvSpPr>
          <p:cNvPr id="68" name="矩形 11"/>
          <p:cNvSpPr/>
          <p:nvPr/>
        </p:nvSpPr>
        <p:spPr>
          <a:xfrm>
            <a:off x="468360" y="330840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角形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正方形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房子侧面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06567"/>
          <p:cNvSpPr/>
          <p:nvPr/>
        </p:nvSpPr>
        <p:spPr>
          <a:xfrm>
            <a:off x="592200" y="4863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06568"/>
          <p:cNvSpPr/>
          <p:nvPr/>
        </p:nvSpPr>
        <p:spPr>
          <a:xfrm>
            <a:off x="808200" y="5079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06569"/>
          <p:cNvSpPr/>
          <p:nvPr/>
        </p:nvSpPr>
        <p:spPr>
          <a:xfrm>
            <a:off x="1024200" y="5295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06570"/>
          <p:cNvSpPr/>
          <p:nvPr/>
        </p:nvSpPr>
        <p:spPr>
          <a:xfrm>
            <a:off x="1239840" y="5511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2"/>
          <p:cNvSpPr/>
          <p:nvPr/>
        </p:nvSpPr>
        <p:spPr>
          <a:xfrm>
            <a:off x="1047960" y="215424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暴露资源，组织研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468360" y="2565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二：两个梯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探究组合图形面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12000" y="2637000"/>
            <a:ext cx="1990440" cy="2160360"/>
            <a:chOff x="6012000" y="2637000"/>
            <a:chExt cx="1990440" cy="2160360"/>
          </a:xfrm>
        </p:grpSpPr>
        <p:pic>
          <p:nvPicPr>
            <p:cNvPr id="78" name="图片 707590" descr="48"/>
            <p:cNvPicPr/>
            <p:nvPr/>
          </p:nvPicPr>
          <p:blipFill>
            <a:blip r:embed="rId2"/>
            <a:stretch/>
          </p:blipFill>
          <p:spPr>
            <a:xfrm>
              <a:off x="6012000" y="2637000"/>
              <a:ext cx="199044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直接连接符 707591"/>
            <p:cNvSpPr/>
            <p:nvPr/>
          </p:nvSpPr>
          <p:spPr>
            <a:xfrm>
              <a:off x="6929280" y="2655720"/>
              <a:ext cx="0" cy="2050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矩形 11"/>
          <p:cNvSpPr/>
          <p:nvPr/>
        </p:nvSpPr>
        <p:spPr>
          <a:xfrm>
            <a:off x="468360" y="3308400"/>
            <a:ext cx="49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梯形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房子侧面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2"/>
          <p:cNvSpPr/>
          <p:nvPr/>
        </p:nvSpPr>
        <p:spPr>
          <a:xfrm>
            <a:off x="1047960" y="215424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暴露资源，组织研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468360" y="2565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三：拼成一个长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探究组合图形面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7200" y="417600"/>
            <a:ext cx="757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227640" y="2781360"/>
            <a:ext cx="1990800" cy="2160360"/>
            <a:chOff x="6227640" y="2781360"/>
            <a:chExt cx="1990800" cy="2160360"/>
          </a:xfrm>
        </p:grpSpPr>
        <p:pic>
          <p:nvPicPr>
            <p:cNvPr id="86" name="图片 708614" descr="48"/>
            <p:cNvPicPr/>
            <p:nvPr/>
          </p:nvPicPr>
          <p:blipFill>
            <a:blip r:embed="rId2"/>
            <a:stretch/>
          </p:blipFill>
          <p:spPr>
            <a:xfrm>
              <a:off x="6227640" y="2781360"/>
              <a:ext cx="199080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直接连接符 708615"/>
            <p:cNvSpPr/>
            <p:nvPr/>
          </p:nvSpPr>
          <p:spPr>
            <a:xfrm>
              <a:off x="6372000" y="3068280"/>
              <a:ext cx="151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708616"/>
            <p:cNvSpPr/>
            <p:nvPr/>
          </p:nvSpPr>
          <p:spPr>
            <a:xfrm flipV="1">
              <a:off x="6352920" y="3056760"/>
              <a:ext cx="0" cy="217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708617"/>
            <p:cNvSpPr/>
            <p:nvPr/>
          </p:nvSpPr>
          <p:spPr>
            <a:xfrm flipV="1">
              <a:off x="7907040" y="3072960"/>
              <a:ext cx="0" cy="217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矩形 11"/>
          <p:cNvSpPr/>
          <p:nvPr/>
        </p:nvSpPr>
        <p:spPr>
          <a:xfrm>
            <a:off x="468360" y="330840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方形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房子侧面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方形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08619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2"/>
          <p:cNvSpPr/>
          <p:nvPr/>
        </p:nvSpPr>
        <p:spPr>
          <a:xfrm>
            <a:off x="1047960" y="215424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暴露资源，组织研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468360" y="2565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四：从长方形中挖走两个小三角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探究组合图形面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57200" y="417600"/>
            <a:ext cx="706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940360" y="2420640"/>
            <a:ext cx="1990800" cy="2160360"/>
            <a:chOff x="5940360" y="2420640"/>
            <a:chExt cx="1990800" cy="2160360"/>
          </a:xfrm>
        </p:grpSpPr>
        <p:pic>
          <p:nvPicPr>
            <p:cNvPr id="97" name="图片 709638" descr="48"/>
            <p:cNvPicPr/>
            <p:nvPr/>
          </p:nvPicPr>
          <p:blipFill>
            <a:blip r:embed="rId2"/>
            <a:stretch/>
          </p:blipFill>
          <p:spPr>
            <a:xfrm>
              <a:off x="5940360" y="2427120"/>
              <a:ext cx="1990800" cy="21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直接连接符 709639"/>
            <p:cNvSpPr/>
            <p:nvPr/>
          </p:nvSpPr>
          <p:spPr>
            <a:xfrm>
              <a:off x="6084720" y="2436480"/>
              <a:ext cx="151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709640"/>
            <p:cNvSpPr/>
            <p:nvPr/>
          </p:nvSpPr>
          <p:spPr>
            <a:xfrm flipV="1">
              <a:off x="6068880" y="2420640"/>
              <a:ext cx="0" cy="501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709641"/>
            <p:cNvSpPr/>
            <p:nvPr/>
          </p:nvSpPr>
          <p:spPr>
            <a:xfrm flipV="1">
              <a:off x="7619760" y="2420640"/>
              <a:ext cx="0" cy="517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11"/>
          <p:cNvSpPr/>
          <p:nvPr/>
        </p:nvSpPr>
        <p:spPr>
          <a:xfrm>
            <a:off x="468360" y="3308400"/>
            <a:ext cx="49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方形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三角形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房子侧面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786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468360" y="23238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升认识：通过刚才的研究，你觉得求组合图形的面积都有哪些方法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684360" y="28954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：我们可以把一个组合图形分成几个基本图形，也可以运用割补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一个组合图形拼成学过的图形，还可以从一个学过的图形中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去一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探究组合图形面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646200" y="400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师总结：看来我们解决组合图形的面积可以采取三种方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就是分、拼、挖，那对于刚才这道题你觉得哪种方法最好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708120" y="4903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：我认为把组合图形分成正方形和三角形最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68360" y="23238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示情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巩固练习，掌握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68360" y="5516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出问题和要求：请你先想好用什么方法解决这道题，再独立解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11685"/>
          <p:cNvSpPr/>
          <p:nvPr/>
        </p:nvSpPr>
        <p:spPr>
          <a:xfrm>
            <a:off x="701640" y="2708280"/>
            <a:ext cx="78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一块梯形的地中间有一个长方形的游泳池，其余的地方是草地。草地的面积是多少平方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711686" descr="49"/>
          <p:cNvPicPr/>
          <p:nvPr/>
        </p:nvPicPr>
        <p:blipFill>
          <a:blip r:embed="rId2"/>
          <a:stretch/>
        </p:blipFill>
        <p:spPr>
          <a:xfrm>
            <a:off x="2340000" y="3716280"/>
            <a:ext cx="3763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3:07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